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ECFF-2C5F-49F4-BD67-08A481011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5659-B1AC-495B-BB1A-7E4C41C41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509B-408A-48E6-80E4-336AD179A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F348-0123-4429-9FE4-EB1B6AC4E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F7992-D6F5-4ED5-BF11-A6F0C03E9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78369-C4A1-47F6-AD64-4BDA18CE3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3BA43-9F06-4E54-B0EB-0549C47DB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4ECB7-F1D2-43B7-A568-B4C78215D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CFA1F-A409-472F-BB0E-07C2D7A82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184A8-9ABB-42B4-A4F6-22C78DAD0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6F472-75E5-415E-AC8C-697D78C11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EDC9-4EF7-42A7-980B-05D450EF0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6FFA2-5241-427D-B20A-593DDD1F9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904BD-B59E-477F-9831-253FD70BF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EB410-B374-43B4-BC68-2C6599B16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B04BA-94B1-4BE7-9D7D-243659109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F82B5-9C75-4E4E-A38F-E2B3B46BF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27F1-80A5-435C-8258-5BEDC3D73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AA38-C13D-4517-A4F8-AFAB886D5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00F4-8F84-4A8C-BC18-174177C95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18A2-64D9-4DB4-9E1C-6C96FFE04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3D9B-A31A-41E8-9BE4-B51B8392F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E5DB-B94A-438E-B6D1-85C019247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02C9-03D3-4D5E-AD3B-04CA9E0C3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79285-5879-45FD-82CD-AB3BF273E751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4C014-7DEB-4308-9D54-84DD3A50FD93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765000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4246e6"/>
                </a:solidFill>
                <a:latin typeface="Times New Roman"/>
              </a:rPr>
              <a:t>ثالثاً – طرق وصف السمع واختبارات قياسه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الطريقة الوصفية</a:t>
            </a:r>
            <a:r>
              <a:rPr b="0" lang="ar-EG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طريقة الديسيبل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الطريقة المئوية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الطريقة الكلية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765000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ar-SA" sz="3600" spc="-1" strike="noStrike">
                <a:solidFill>
                  <a:srgbClr val="4246e6"/>
                </a:solidFill>
                <a:latin typeface="Times New Roman"/>
              </a:rPr>
              <a:t>اختبارات قياس السمع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ar-EG" sz="3200" spc="-1" strike="noStrike">
                <a:solidFill>
                  <a:srgbClr val="ffffff"/>
                </a:solidFill>
                <a:latin typeface="Times New Roman"/>
              </a:rPr>
              <a:t>الاختبارات التقليدية :</a:t>
            </a:r>
            <a:r>
              <a:rPr b="0" lang="ar-EG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ffff"/>
                </a:solidFill>
                <a:latin typeface="Times New Roman"/>
              </a:rPr>
              <a:t>اختبارات الشوكة الرنانة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ffff"/>
                </a:solidFill>
                <a:latin typeface="Times New Roman"/>
              </a:rPr>
              <a:t>اختبار الهمس</a:t>
            </a:r>
            <a:r>
              <a:rPr b="0" lang="ar-EG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    - </a:t>
            </a:r>
            <a:r>
              <a:rPr b="1" lang="ar-EG" sz="3200" spc="-1" strike="noStrike">
                <a:solidFill>
                  <a:srgbClr val="ffffff"/>
                </a:solidFill>
                <a:latin typeface="Times New Roman"/>
              </a:rPr>
              <a:t>اختبار الساعة الدقاقة</a:t>
            </a:r>
            <a:r>
              <a:rPr b="0" lang="ar-EG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الاختبارات الحديثة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Times New Roman"/>
              </a:rPr>
              <a:t>اختبار جهاز قياس السمع بالنغمات النقية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Times New Roman"/>
              </a:rPr>
              <a:t>الاختبار السمعي الخاص بالكلام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Times New Roman"/>
              </a:rPr>
              <a:t>اختبارات السمع  الخاصة بالأطفال ذوي الإعاقات المتعددة</a:t>
            </a:r>
            <a:r>
              <a:rPr b="0" lang="ar-EG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765000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4246e6"/>
                </a:solidFill>
                <a:latin typeface="Times New Roman"/>
              </a:rPr>
              <a:t>رابعاً - الجهاز السمعي وآلية السمع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 algn="r" rtl="1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4246e6"/>
                </a:solidFill>
                <a:latin typeface="Times New Roman"/>
              </a:rPr>
              <a:t> مكونات الجهاز السمعي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الأذن الخارجية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ffffff"/>
                </a:solidFill>
                <a:latin typeface="Times New Roman"/>
              </a:rPr>
              <a:t>تتكون من الصيوان والقناة السمعية الخارجية التي تنتهي بالطبلة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ffff"/>
                </a:solidFill>
                <a:latin typeface="Times New Roman"/>
              </a:rPr>
              <a:t>الأذن الوسطى:</a:t>
            </a:r>
            <a:r>
              <a:rPr b="0" lang="ar-EG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ffffff"/>
                </a:solidFill>
                <a:latin typeface="Times New Roman"/>
              </a:rPr>
              <a:t>تتكون من ثلاث عظيمات صغيرة هي المطرقة والسندان والركاب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ffff"/>
                </a:solidFill>
                <a:latin typeface="Times New Roman"/>
              </a:rPr>
              <a:t>الأذن الداخلية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Times New Roman"/>
              </a:rPr>
              <a:t>تتكون من القوقعة , والقناة القوقعية , والعصب القوقعي , والقنوات شبه الهلالية والعصب السمعي بالمخ حتى تصل إلى القشرة المخية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 algn="r" rtl="1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4246e6"/>
                </a:solidFill>
                <a:latin typeface="Times New Roman"/>
              </a:rPr>
              <a:t>آلية السمع </a:t>
            </a:r>
            <a:r>
              <a:rPr b="1" lang="ar-SA" sz="3600" spc="-1" strike="noStrike">
                <a:solidFill>
                  <a:srgbClr val="4246e6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263520" y="259920"/>
            <a:ext cx="738648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4246e6"/>
                </a:solidFill>
                <a:latin typeface="Times New Roman"/>
              </a:rPr>
              <a:t>خامساً - أسباب الإعاقة السمعية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Times New Roman"/>
              </a:rPr>
              <a:t>أسباب الإعاقة بحسب زمن حدوث الإصابة</a:t>
            </a:r>
            <a:r>
              <a:rPr b="0" lang="ar-EG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 algn="r" rtl="1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ffffff"/>
                </a:solidFill>
                <a:latin typeface="Times New Roman"/>
              </a:rPr>
              <a:t>أسباب قبل الولادة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 algn="r" rtl="1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Times New Roman"/>
              </a:rPr>
              <a:t>أسباب وراثية</a:t>
            </a:r>
            <a:r>
              <a:rPr b="0" lang="ar-EG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 algn="r" rtl="1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Times New Roman"/>
              </a:rPr>
              <a:t>تشوهات خلقية</a:t>
            </a:r>
            <a:r>
              <a:rPr b="0" lang="ar-EG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 algn="r" rtl="1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Times New Roman"/>
              </a:rPr>
              <a:t>الحصبة الألمانية</a:t>
            </a:r>
            <a:r>
              <a:rPr b="0" lang="ar-EG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 algn="r" rtl="1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Times New Roman"/>
              </a:rPr>
              <a:t>نقص اليود</a:t>
            </a:r>
            <a:r>
              <a:rPr b="0" lang="ar-EG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 algn="r" rtl="1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Times New Roman"/>
              </a:rPr>
              <a:t>العامل الريزيسي</a:t>
            </a:r>
            <a:r>
              <a:rPr b="0" lang="ar-EG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 algn="r" rtl="1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ffffff"/>
                </a:solidFill>
                <a:latin typeface="Times New Roman"/>
              </a:rPr>
              <a:t>عوامل أثناء الولادة 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Times New Roman"/>
              </a:rPr>
              <a:t>نقص الأكسيجين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Times New Roman"/>
              </a:rPr>
              <a:t>الصدمات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Times New Roman"/>
              </a:rPr>
              <a:t>مرض اليرقان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765000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3" marL="1584000" indent="-226080" algn="r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ffff"/>
                </a:solidFill>
                <a:latin typeface="Times New Roman"/>
              </a:rPr>
              <a:t>عوامل بعد الولادة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 algn="r" rtl="1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ffff"/>
                </a:solidFill>
                <a:latin typeface="Times New Roman"/>
              </a:rPr>
              <a:t>عوامل تسود في مرحلة الطفولة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 algn="r" rtl="1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Times New Roman"/>
              </a:rPr>
              <a:t>مرض الحصبة</a:t>
            </a:r>
            <a:r>
              <a:rPr b="0" lang="ar-EG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 algn="r" rtl="1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Times New Roman"/>
              </a:rPr>
              <a:t>النكاف أو التهاب الغدة النكفية </a:t>
            </a:r>
            <a:r>
              <a:rPr b="0" lang="ar-EG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 algn="r" rtl="1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Times New Roman"/>
              </a:rPr>
              <a:t>التهاب السحايا </a:t>
            </a:r>
            <a:r>
              <a:rPr b="0" lang="ar-EG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 algn="r" rtl="1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Times New Roman"/>
              </a:rPr>
              <a:t>دخول أجسام غريبة إلى الأذن</a:t>
            </a:r>
            <a:r>
              <a:rPr b="0" lang="ar-EG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 algn="r" rtl="1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Times New Roman"/>
              </a:rPr>
              <a:t>التهاب الأذن الوسطى</a:t>
            </a:r>
            <a:r>
              <a:rPr b="0" lang="ar-EG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 algn="r" rtl="1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Times New Roman"/>
              </a:rPr>
              <a:t>صدمات الدماغ</a:t>
            </a:r>
            <a:r>
              <a:rPr b="0" lang="ar-EG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 algn="r" rtl="1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Times New Roman"/>
              </a:rPr>
              <a:t>الهربز</a:t>
            </a:r>
            <a:r>
              <a:rPr b="0" lang="ar-EG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 - </a:t>
            </a:r>
            <a:r>
              <a:rPr b="1" lang="ar-EG" sz="2800" spc="-1" strike="noStrike">
                <a:solidFill>
                  <a:srgbClr val="ffffff"/>
                </a:solidFill>
                <a:latin typeface="Times New Roman"/>
              </a:rPr>
              <a:t>عوامل تسود بداية من مرحلة البلوغ وما بعدها 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 algn="r" rtl="1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Times New Roman"/>
              </a:rPr>
              <a:t>التعرض المستمر للضوضاء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 algn="r" rtl="1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Times New Roman"/>
              </a:rPr>
              <a:t>اضطرابات الأيض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 algn="r" rtl="1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Times New Roman"/>
              </a:rPr>
              <a:t>التقدم في السن أو الشيخوخة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 algn="r" rtl="1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Times New Roman"/>
              </a:rPr>
              <a:t>تصلب الأذن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 algn="r" rtl="1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Times New Roman"/>
              </a:rPr>
              <a:t>صدمات الدماغ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765000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r" rtl="1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ffff"/>
                </a:solidFill>
                <a:latin typeface="Times New Roman"/>
              </a:rPr>
              <a:t>أسباب الإعاقة السمعية بحسب ما ينتج عنها من نوع فقد السمع كما يلي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 algn="r" rtl="1"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ffff"/>
                </a:solidFill>
                <a:latin typeface="Times New Roman"/>
              </a:rPr>
              <a:t>فقد سمع توصيلي</a:t>
            </a:r>
            <a:r>
              <a:rPr b="0" lang="ar-EG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 algn="r" rtl="1"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ffff"/>
                </a:solidFill>
                <a:latin typeface="Times New Roman"/>
              </a:rPr>
              <a:t>فقد سمع حسي عصبي</a:t>
            </a:r>
            <a:r>
              <a:rPr b="0" lang="ar-EG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 algn="r" rtl="1"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ffff"/>
                </a:solidFill>
                <a:latin typeface="Times New Roman"/>
              </a:rPr>
              <a:t>فقد سمع مختلط</a:t>
            </a:r>
            <a:r>
              <a:rPr b="0" lang="ar-EG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 algn="r" rtl="1"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ffff"/>
                </a:solidFill>
                <a:latin typeface="Times New Roman"/>
              </a:rPr>
              <a:t>فقد سمع مركزي</a:t>
            </a:r>
            <a:r>
              <a:rPr b="0" lang="ar-EG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0" y="333360"/>
            <a:ext cx="7650000" cy="65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4246e6"/>
                </a:solidFill>
                <a:latin typeface="Times New Roman"/>
              </a:rPr>
              <a:t>سادساً - الوقاية من الإعاقة السمعية</a:t>
            </a:r>
            <a:r>
              <a:rPr b="1" lang="en-US" sz="3600" spc="-1" strike="noStrike">
                <a:solidFill>
                  <a:srgbClr val="4246e6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Times New Roman"/>
              </a:rPr>
              <a:t>المستوى الأول ـ منع حدوث العوامل المسببة للإعاقة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Times New Roman"/>
              </a:rPr>
              <a:t>المستوى الثاني ـ التدخل لمنع حدوث قصور وظيفي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Times New Roman"/>
              </a:rPr>
              <a:t>المستوى الثالث ـ إعادة التأهيل الشامل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7T14:38:35Z</dcterms:created>
  <dc:creator>ScOrPiOnE</dc:creator>
  <dc:description/>
  <dc:language>en-US</dc:language>
  <cp:lastModifiedBy>ScOrPiOnE</cp:lastModifiedBy>
  <dcterms:modified xsi:type="dcterms:W3CDTF">2008-06-17T14:38:54Z</dcterms:modified>
  <cp:revision>1</cp:revision>
  <dc:subject/>
  <dc:title>الشريحة 1</dc:title>
</cp:coreProperties>
</file>